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662F-096A-4E4B-A904-4D5DC8C4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E6AF-2656-4C38-98AD-93364715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00B3-7BA3-47D1-8DA1-11C3561D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F206-44DE-4807-AD61-0FF129953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3F31-73E0-46D0-AA2B-AD881411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E35C-1446-4608-9C61-8D8E7DA6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DF77-D870-475E-B6F7-331331C7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FA17-CCFD-400E-ABF6-FAFC322C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B3E8-9533-446D-862C-640FE429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36CF-B154-4D36-B6FE-03D2E10F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9335-9F2C-42A6-AB95-05457ACB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1BD0-9244-410F-A4F4-D56EE9B3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38DE-7526-47BD-A0B9-1853AE9A03B3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35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Effects Of Earthquake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Primary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ffects of an earthquake can be easily split up into two secti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imary effec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e those that occur immediately as the earthquake happe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include buildings collapsing, roads and bridges being destroyed and railway lines being buckl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occur due to the shaking of the grou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econdary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000000"/>
                </a:solidFill>
                <a:latin typeface="Calibri"/>
              </a:rPr>
              <a:t>Fir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000000"/>
                </a:solidFill>
                <a:latin typeface="Calibri"/>
              </a:rPr>
              <a:t>Tidal Wav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000000"/>
                </a:solidFill>
                <a:latin typeface="Calibri"/>
              </a:rPr>
              <a:t>Landslid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000000"/>
                </a:solidFill>
                <a:latin typeface="Calibri"/>
              </a:rPr>
              <a:t>Diseas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i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from ruptured gas lin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was the main cause of death and damage after the San Francisco earthquake in 190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idal Wa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tidal waves caused by an earthquake is called a tsunam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y can travel very quickly across entire oceans, before engulfing land 1000's of miles awa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1964 Alaskan earthquake caused considerable damage in several Californian coastal are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though Los Angeles has escaped so far, its is still considered to be a tsunami hazard prone are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Landsl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often be triggered by earthquakes, causing huge amounts of material to be moved very quickl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ctually what occurred just before the volcanic eruption on Mt. St. Hele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e most likely to occur where the land is steep, saturated or wea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Dise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an spread very quickly in the unsanitary conditions often left behind by massive earthquakes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Water becomes contaminated very quickly, and in Less Economically Developed Countries (LEDC's) especially; access for the medical services can be badly hampered by the damage caused by the quake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most common diseases to be associated with earthquakes are therefore water-borne ones like cholera and typhoid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3:58:24Z</dcterms:created>
  <dc:creator>Dell_02</dc:creator>
  <dc:description/>
  <dc:language>en-US</dc:language>
  <cp:lastModifiedBy>Dell_02</cp:lastModifiedBy>
  <dcterms:modified xsi:type="dcterms:W3CDTF">2011-01-26T14:03:27Z</dcterms:modified>
  <cp:revision>1</cp:revision>
  <dc:subject/>
  <dc:title>Effects Of Earthquakes</dc:title>
</cp:coreProperties>
</file>